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44D-0303-444E-BD01-230E3CF9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776-7172-49F0-97B7-8BD1D8DA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E4A-C788-4CB4-8CDC-74A5910F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545-C7C9-49B7-8C11-0B28AAE4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5D8-4CD8-499C-AFC5-5D75638C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BF5-773A-4F7F-A88B-1C055F3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291-1654-4F0B-B386-5703FA16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DF6-A286-448F-9D4C-D07BAAD9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0B0-C45D-4EB3-A43F-F250EE2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474-F4E4-490F-8B78-6A4D8B48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E1F-623C-45C0-B217-9C09D736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730-35F2-4D87-B60F-89A97CFA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92C1-ED33-40C6-B5CC-29BDCB749F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000" y="1557000"/>
            <a:ext cx="4969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5 simple rules inside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ittle einsteins theme song.mp3" descr=""/>
          <p:cNvPicPr/>
          <p:nvPr/>
        </p:nvPicPr>
        <p:blipFill>
          <a:blip r:embed="rId2"/>
          <a:stretch/>
        </p:blipFill>
        <p:spPr>
          <a:xfrm>
            <a:off x="4853160" y="4941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able to instill to the children hoe to behave inside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able to make the children realize that there are certain rules to be fo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able to impose order and stability in the classroom and among th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RUL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COME TO SCHOOL ON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436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1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1500" spc="-1" strike="noStrike">
                <a:solidFill>
                  <a:srgbClr val="ffffff"/>
                </a:solidFill>
                <a:latin typeface="Comic Sans MS"/>
              </a:rPr>
              <a:t>Rule 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No running and no shou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5861160" y="3573360"/>
            <a:ext cx="237636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4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Rule 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en in need of help, ask polite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580000" y="3645000"/>
            <a:ext cx="2373480" cy="2423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8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Rule 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ways tell the tru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3527640" cy="3055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21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Rule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spect one anot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217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24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Ignorance of the Law excuses no one.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ww.brainyquote.co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ww.google.c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fet</cp:lastModifiedBy>
  <dcterms:modified xsi:type="dcterms:W3CDTF">2012-10-01T15:36:33Z</dcterms:modified>
  <cp:revision>39</cp:revision>
  <dc:subject/>
  <dc:title>Diapositiva 1</dc:title>
</cp:coreProperties>
</file>